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CE7-DCBF-40BF-8A03-4171B836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792-6718-40EC-BCAF-DA2EFFAD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2C3-2924-4E42-9A16-0C46708B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238-F668-439C-AA22-5ED40BD8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43BE-212E-494C-8F49-75809D82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0255-486F-459F-90A0-4751038F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B953-00E4-4085-B1CD-5408806D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935B-2455-496A-8E8F-C683A04F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4DDA-A85F-4D2D-BA38-9F0FD741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6538-F126-40EC-A5C6-AC4C92CA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5395-5E60-447A-81F0-79369D88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997-F013-4424-B5C1-D6AFA15E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A012-9ABE-42DC-AD0D-BD6480B2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35DC-4BB4-4403-88D5-B696EFD7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42CF-D677-4F06-9F28-AA55AC19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6517-9C29-489F-9D46-888B5458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BDAB-185A-4B8F-9AA3-1E2E50D9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47A-FD41-4BA6-AB31-6A9AB267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376-FD1E-4E43-BE47-02AAF098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87B-D29A-4EAD-BA3D-83A9B5FE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F00-18B8-4068-A22F-867BDB34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3DF-E922-41AA-9EC5-FA9C4AAB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9C9-C7F8-4D8D-99A5-5C352DEF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099-BEC3-4A2D-8883-2F7D8C2F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091B-AFBA-41CD-BB71-3D54BEE543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AAD6-7315-451E-8473-2C3EED4285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5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Влияние подвижных игр на физическое развитие детей в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детском оздоровительном лагер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ускная квалификационная работ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тудента 407 групп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Бутусова А. П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Таблица 1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Дети, посещающие лагерь 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экспериментальная группа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1628640"/>
          <a:ext cx="8229600" cy="489132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792000"/>
                <a:gridCol w="720720"/>
                <a:gridCol w="576360"/>
                <a:gridCol w="647640"/>
                <a:gridCol w="719280"/>
                <a:gridCol w="720720"/>
                <a:gridCol w="792000"/>
                <a:gridCol w="720720"/>
                <a:gridCol w="812880"/>
              </a:tblGrid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начал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онц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среднеи по груп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Таблица 2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Дети, посещающие лагерь 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контрольная группа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1079640"/>
                <a:gridCol w="647640"/>
                <a:gridCol w="792000"/>
                <a:gridCol w="720720"/>
                <a:gridCol w="576360"/>
                <a:gridCol w="647640"/>
                <a:gridCol w="719280"/>
                <a:gridCol w="720720"/>
                <a:gridCol w="792000"/>
                <a:gridCol w="720720"/>
                <a:gridCol w="8128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начал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онц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среднеи по груп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4"/>
          <p:cNvGraphicFramePr/>
          <p:nvPr/>
        </p:nvGraphicFramePr>
        <p:xfrm>
          <a:off x="0" y="260280"/>
          <a:ext cx="9144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0" y="0"/>
          <a:ext cx="8964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целенаправленное применение подвижных игр положительно воздействует на формирование всех двигательных качест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использование расширенного объема подвижных игр способствует более высокому приросту двигательных качест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дети экспериментальной группы (посещающие оздоровительный лагерь) с увеличенным объемом подвижных игр превосходят детей контрольной группы (не посещающих оздоровительный лагерь) по темпам прироста показателей физической подготовленнос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Проблема исследования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заключается во влиянии подвижных игр на развитие детей и их личностных качеств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Цель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Разработать и доказать эффективность  подвижных игр для развития детей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Объект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роцесс развития личности средствами игровой деятельности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Предмет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влияние подвижных игр на физическое развитие детей в детском оздоровительном лагер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ть научную, научно-методическую и специальную  литературу по данной проблем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ть характеристику современного состояния применения игровой деятельности в развитии детей  в детском оздоровительном лагер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работать комплекс  подвижных игр для  ДОЛ, способствующих процессу активного развития дет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значимость подвижных игр в развитии дет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Verdana"/>
              </a:rPr>
              <a:t>Гипотеза исследования: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Если разработать специальный комплекс подвижных игр для детского оздоровительного лагеря, то можно будет более эффективно организовать процесс развития дете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трольные упражнения 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г 60 мет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жки в длину с разбе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жки в высот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тание мяча 150 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тягива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Мальчики на высокой перекладине из ви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Девочки на низкой перекладине из виса леж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Группы, принимающие участие в эксперимент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Дети, посещающие лагерь (контрольная групп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Дети, не посещающие  лагерь. (экспериментальная групп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3:37:23Z</dcterms:created>
  <dc:creator>Таня</dc:creator>
  <dc:description/>
  <dc:language>en-US</dc:language>
  <cp:lastModifiedBy>Максим</cp:lastModifiedBy>
  <dcterms:modified xsi:type="dcterms:W3CDTF">2010-10-30T18:13:44Z</dcterms:modified>
  <cp:revision>8</cp:revision>
  <dc:subject/>
  <dc:title>Слайд 1</dc:title>
</cp:coreProperties>
</file>